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E88-9BE3-4FDB-BCDB-3EDE8DC8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D65-250E-4306-81F8-B219CB2A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2EC-1E20-47E3-9DBC-01F546BD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058-150A-46F8-BBF0-BCC49F7A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792E-1E4F-49F0-9FF1-097D5F3F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604-3869-4E9E-BC26-39A980B4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FD65-764F-4562-8028-A8374E22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BC0-73A2-4634-A8C9-D0CBE5E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61E0-7B5B-43AC-B71C-0C2D2035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E88-9776-4A2D-9BBD-9919AA9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7DA-2673-4779-917E-2FA47BF1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86F-90BB-4B41-96D0-D4DC5E2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39E-9790-47ED-A85A-72126D6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FE5D-E091-409E-844D-D64F27A4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56F-83C2-4B7F-8E06-4F09B89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775F-1153-4A53-A1D5-BC8091A4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F6A7-78F1-4490-90C5-DC219A6A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A1F-B80F-4860-AA8A-5A356CC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B9F-882D-4616-AAC3-F91C8438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2AC-348D-4369-BAB4-E530BA7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F55-7A46-4DF5-AB9F-A4BC9B4E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DE8-23D1-4F8F-9E58-6892E81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DC7-B4E3-4904-8465-1611F87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BE-92FD-4AC0-AF79-36B1A6D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2407-067E-4F29-96A5-D2D222F43F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AAD-503F-49EA-8293-882B8E0B9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онкурс «Учебный проект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5720" y="2001960"/>
            <a:ext cx="639900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Как вовремя все успевать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6620b010aa2f8c8dc7ebebe2a1e7de08"/>
          <p:cNvPicPr/>
          <p:nvPr/>
        </p:nvPicPr>
        <p:blipFill>
          <a:blip r:embed="rId1"/>
          <a:stretch/>
        </p:blipFill>
        <p:spPr>
          <a:xfrm>
            <a:off x="250920" y="378936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9816692"/>
          <p:cNvPicPr/>
          <p:nvPr/>
        </p:nvPicPr>
        <p:blipFill>
          <a:blip r:embed="rId2"/>
          <a:stretch/>
        </p:blipFill>
        <p:spPr>
          <a:xfrm>
            <a:off x="6227640" y="3789360"/>
            <a:ext cx="2467080" cy="280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y_48acca94"/>
          <p:cNvPicPr/>
          <p:nvPr/>
        </p:nvPicPr>
        <p:blipFill>
          <a:blip r:embed="rId3"/>
          <a:stretch/>
        </p:blipFill>
        <p:spPr>
          <a:xfrm>
            <a:off x="2916360" y="3789360"/>
            <a:ext cx="3311280" cy="2808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8360" y="623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Arial"/>
              </a:rPr>
              <a:t>Подготовила Борисова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11640" y="1341360"/>
            <a:ext cx="4471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Научитесь говорить «НЕ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ние отказывать в просьбах, которые вас не устраивают или вызывают трудности в выполнен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от метод поможет сберечь время. С помощью простого обмена поможет избавиться от многих дел ,поглощающих врем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stock-photo1269014797_xwidth300"/>
          <p:cNvPicPr/>
          <p:nvPr/>
        </p:nvPicPr>
        <p:blipFill>
          <a:blip r:embed="rId1"/>
          <a:stretch/>
        </p:blipFill>
        <p:spPr>
          <a:xfrm>
            <a:off x="1042920" y="1484280"/>
            <a:ext cx="2857680" cy="42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«Вопрос     Лакейна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чать на вопрос: "Как сейчас можно потратить время с наибольшей пользой?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от прием позволит использовать время эффективно и поможет сосредотачиваться на раб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questionmarks"/>
          <p:cNvPicPr/>
          <p:nvPr/>
        </p:nvPicPr>
        <p:blipFill>
          <a:blip r:embed="rId1"/>
          <a:stretch/>
        </p:blipFill>
        <p:spPr>
          <a:xfrm>
            <a:off x="1187280" y="1413000"/>
            <a:ext cx="30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24000" y="1267920"/>
            <a:ext cx="489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Ежедневный список дел с ограничением времен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ить список дел с ограничением времени. Выполнение дел в срок согласно спис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ает возможность  делам продвигаться. Появляется стимул, не медлить с делами, а выполнять их быстро,  в  срок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i-dont-have-enough-time"/>
          <p:cNvPicPr/>
          <p:nvPr/>
        </p:nvPicPr>
        <p:blipFill>
          <a:blip r:embed="rId1"/>
          <a:stretch/>
        </p:blipFill>
        <p:spPr>
          <a:xfrm>
            <a:off x="395280" y="1628640"/>
            <a:ext cx="3529080" cy="32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76720" y="1268280"/>
            <a:ext cx="3610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етод «Швейцарского Сыра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ожение трудного дела на несколько ча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могает сдвинуть с мертвой точки «неподъемное дело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SF04-5342"/>
          <p:cNvPicPr/>
          <p:nvPr/>
        </p:nvPicPr>
        <p:blipFill>
          <a:blip r:embed="rId1"/>
          <a:stretch/>
        </p:blipFill>
        <p:spPr>
          <a:xfrm>
            <a:off x="900000" y="1268280"/>
            <a:ext cx="3454560" cy="2435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time"/>
          <p:cNvPicPr/>
          <p:nvPr/>
        </p:nvPicPr>
        <p:blipFill>
          <a:blip r:embed="rId2"/>
          <a:stretch/>
        </p:blipFill>
        <p:spPr>
          <a:xfrm>
            <a:off x="900000" y="3716280"/>
            <a:ext cx="34560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етод «Я закончу через пять минут»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уговаривает себя сделать какое-либо неприятное для него дело ровно на 5 минут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может сдвинуть неподъемное, для человека, дело в мертвой точ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64355362_08258b1e062b88e6ec1907ff4527a387"/>
          <p:cNvPicPr/>
          <p:nvPr/>
        </p:nvPicPr>
        <p:blipFill>
          <a:blip r:embed="rId1"/>
          <a:stretch/>
        </p:blipFill>
        <p:spPr>
          <a:xfrm>
            <a:off x="539640" y="148428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24000" y="1168560"/>
            <a:ext cx="4824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етод «Подбадрива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клеить везде слова подбадривания, с помощью  которых человек мог бы придать себе бодрость и позитивное отношение к рабо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эти призывы помогут преодолеть негативные эмоции и неуверенность. Поможет сдвинуть дело в мертвой точ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50296784_vremya"/>
          <p:cNvPicPr/>
          <p:nvPr/>
        </p:nvPicPr>
        <p:blipFill>
          <a:blip r:embed="rId1"/>
          <a:stretch/>
        </p:blipFill>
        <p:spPr>
          <a:xfrm>
            <a:off x="395280" y="1413000"/>
            <a:ext cx="3303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етод «Проб и ошибок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иск истины через, пробы и неу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овершение "ошибок" может сэкономить время и приобрести опы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tijd"/>
          <p:cNvPicPr/>
          <p:nvPr/>
        </p:nvPicPr>
        <p:blipFill>
          <a:blip r:embed="rId1"/>
          <a:stretch/>
        </p:blipFill>
        <p:spPr>
          <a:xfrm>
            <a:off x="539640" y="1628640"/>
            <a:ext cx="410364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 №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3899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етод «Обязатель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тельство пред кем-то выполнить дело в определенный с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тимул к действию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5" descr="karera"/>
          <p:cNvPicPr/>
          <p:nvPr/>
        </p:nvPicPr>
        <p:blipFill>
          <a:blip r:embed="rId1"/>
          <a:stretch/>
        </p:blipFill>
        <p:spPr>
          <a:xfrm>
            <a:off x="755640" y="1916280"/>
            <a:ext cx="360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360" y="335736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все успевать человек должен зн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тделять важные дела от второстепен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правильно ставить цели и определять приорите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планиров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повысить личную организован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экономить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м человек организованнее, тем ему проще управлять работой, домашними делами и жизнью в целом, тем лучше его отношения с окружающи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2592720" cy="2158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1942920" cy="2158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364000" y="981000"/>
            <a:ext cx="2592720" cy="2158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332000" y="333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ведем ито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опрос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53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овремя все успева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x_00f87b77"/>
          <p:cNvPicPr/>
          <p:nvPr/>
        </p:nvPicPr>
        <p:blipFill>
          <a:blip r:embed="rId1"/>
          <a:stretch/>
        </p:blipFill>
        <p:spPr>
          <a:xfrm>
            <a:off x="324000" y="3213000"/>
            <a:ext cx="3240000" cy="273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images"/>
          <p:cNvPicPr/>
          <p:nvPr/>
        </p:nvPicPr>
        <p:blipFill>
          <a:blip r:embed="rId2"/>
          <a:stretch/>
        </p:blipFill>
        <p:spPr>
          <a:xfrm>
            <a:off x="5867280" y="3213000"/>
            <a:ext cx="2737080" cy="2737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-dont-have-enough-time"/>
          <p:cNvPicPr/>
          <p:nvPr/>
        </p:nvPicPr>
        <p:blipFill>
          <a:blip r:embed="rId3"/>
          <a:stretch/>
        </p:blipFill>
        <p:spPr>
          <a:xfrm>
            <a:off x="971640" y="0"/>
            <a:ext cx="2327040" cy="1773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350827"/>
          <p:cNvPicPr/>
          <p:nvPr/>
        </p:nvPicPr>
        <p:blipFill>
          <a:blip r:embed="rId4"/>
          <a:stretch/>
        </p:blipFill>
        <p:spPr>
          <a:xfrm>
            <a:off x="3276720" y="3213000"/>
            <a:ext cx="27241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152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ффективность и врем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56000" y="907920"/>
            <a:ext cx="433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правлять времен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спевать сделать все задуманное, осуществ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и цели, меч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Эфф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деятельность, позволяющая извлечь максимум выгоды ценой минимальных затрат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3168720" cy="2540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30243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edgennwg_400x600.jpg"/>
          <p:cNvPicPr/>
          <p:nvPr/>
        </p:nvPicPr>
        <p:blipFill>
          <a:blip r:embed="rId1"/>
          <a:stretch/>
        </p:blipFill>
        <p:spPr>
          <a:xfrm>
            <a:off x="539640" y="3357720"/>
            <a:ext cx="3313080" cy="32414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"/>
          <p:cNvSpPr/>
          <p:nvPr/>
        </p:nvSpPr>
        <p:spPr>
          <a:xfrm>
            <a:off x="3924360" y="333360"/>
            <a:ext cx="4572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afe1ff"/>
                </a:solidFill>
                <a:latin typeface="Arial"/>
              </a:rPr>
              <a:t>Эффективно использовать врем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 вовремя осуществлять все задуманное ценой минимальных затр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313080" cy="2343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516720" y="3860640"/>
            <a:ext cx="2087640" cy="2781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3036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36240" y="333360"/>
            <a:ext cx="7007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роведенный опрос среди населения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на тему: «Хватает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ли вам времени, чтобы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сделать все, что задумали?» дал следующий результат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3425792715_b22d66eb87_tel"/>
          <p:cNvPicPr/>
          <p:nvPr/>
        </p:nvPicPr>
        <p:blipFill>
          <a:blip r:embed="rId1"/>
          <a:stretch/>
        </p:blipFill>
        <p:spPr>
          <a:xfrm>
            <a:off x="395280" y="765000"/>
            <a:ext cx="2087640" cy="19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Диаграмма 1"/>
          <p:cNvGraphicFramePr/>
          <p:nvPr/>
        </p:nvGraphicFramePr>
        <p:xfrm>
          <a:off x="468360" y="2852640"/>
          <a:ext cx="8353440" cy="374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852640"/>
                    <a:ext cx="835344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етоды  А. Лакей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635280" y="836280"/>
            <a:ext cx="550872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лан Лакей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является ведущим мировым специалистом по управлению личным време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воей книге А. Лакейн рассказывает о том, как отделять важные дела от второстепенных, как правильно ставить цели и определять приоритеты, как планировать, как повысить личную организованность, как экономить врем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2521080" cy="2590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4163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63600" y="1627200"/>
            <a:ext cx="5622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лассификация дел по значим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пределение дел на категории «А» , «В», «С»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хорошее планирование позволит извлечь максимум выгоды ценой минимальных затрат времени. Поможет определить приоритеты в де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2" descr="anotacion"/>
          <p:cNvPicPr/>
          <p:nvPr/>
        </p:nvPicPr>
        <p:blipFill>
          <a:blip r:embed="rId1"/>
          <a:stretch/>
        </p:blipFill>
        <p:spPr>
          <a:xfrm>
            <a:off x="324000" y="1557360"/>
            <a:ext cx="29527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5640" y="1267920"/>
            <a:ext cx="4694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Декларация Жизненных Целей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исать  свои жизненные цели на листке бумаг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оможет  установить, чего человек хочет добиться и более искусно находить равновесие между различными сторонами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350827"/>
          <p:cNvPicPr/>
          <p:nvPr/>
        </p:nvPicPr>
        <p:blipFill>
          <a:blip r:embed="rId1"/>
          <a:stretch/>
        </p:blipFill>
        <p:spPr>
          <a:xfrm>
            <a:off x="684360" y="1413000"/>
            <a:ext cx="285732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 №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84720" y="1268280"/>
            <a:ext cx="4402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Список «Что надо сделат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исать список дел на каждый ден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Эффект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может ничего не забывать и точно знать, что  нужно сделать. Научился правильно расходовать время, не тратить его попус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survey"/>
          <p:cNvPicPr/>
          <p:nvPr/>
        </p:nvPicPr>
        <p:blipFill>
          <a:blip r:embed="rId1"/>
          <a:stretch/>
        </p:blipFill>
        <p:spPr>
          <a:xfrm>
            <a:off x="755640" y="1844640"/>
            <a:ext cx="27417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52:23Z</dcterms:created>
  <dc:creator>Админ</dc:creator>
  <dc:description/>
  <dc:language>en-US</dc:language>
  <cp:lastModifiedBy>Админ</cp:lastModifiedBy>
  <dcterms:modified xsi:type="dcterms:W3CDTF">2011-01-29T10:41:06Z</dcterms:modified>
  <cp:revision>9</cp:revision>
  <dc:subject/>
  <dc:title>Конкурс «Учебные проект»</dc:title>
</cp:coreProperties>
</file>